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3816350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9640" y="685440"/>
            <a:ext cx="2358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3548-BA8F-4F74-88C2-B921D14A59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249640" y="685800"/>
            <a:ext cx="235872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32F9-C65E-4DEF-970B-21F88224E6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249640" y="685800"/>
            <a:ext cx="235872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裏面データ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29FD-C03C-4443-BBDA-031EB85E79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7A0-9783-42FF-A321-BBC6C5A8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080" y="-1107720"/>
            <a:ext cx="3435480" cy="3585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080" y="1293480"/>
            <a:ext cx="343548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4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080" y="3205800"/>
            <a:ext cx="343548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4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F06-C34F-4EBB-93A1-D676B8AF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080" y="-1107720"/>
            <a:ext cx="3435480" cy="3585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293480"/>
            <a:ext cx="167616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5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50480" y="1293480"/>
            <a:ext cx="167616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5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080" y="3205800"/>
            <a:ext cx="167616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5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50480" y="3205800"/>
            <a:ext cx="167616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5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BC6-3B15-4349-98EA-0F687857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080" y="-1107720"/>
            <a:ext cx="3435480" cy="3585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080" y="1293480"/>
            <a:ext cx="110592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43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51800" y="1293480"/>
            <a:ext cx="110592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43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13160" y="1293480"/>
            <a:ext cx="110592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43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080" y="3205800"/>
            <a:ext cx="110592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43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51800" y="3205800"/>
            <a:ext cx="110592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43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13160" y="3205800"/>
            <a:ext cx="110592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43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0B6-1505-4A38-A48C-A5AAE63B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080" y="-1107720"/>
            <a:ext cx="3435480" cy="3585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080" y="1293480"/>
            <a:ext cx="3435480" cy="36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D3E-F403-4DC1-B13B-EECB201B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080" y="-1107720"/>
            <a:ext cx="3435480" cy="3585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080" y="1293480"/>
            <a:ext cx="3435480" cy="36608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7B7-E493-4CEB-9F1D-44306C25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080" y="-1107720"/>
            <a:ext cx="3435480" cy="3585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080" y="1293480"/>
            <a:ext cx="1676160" cy="36608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8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50480" y="1293480"/>
            <a:ext cx="1676160" cy="36608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8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CE4-7B69-4E8B-932C-79CD9EF7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080" y="-1107720"/>
            <a:ext cx="3435480" cy="3585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028-AE55-4DEB-BBE5-2E38DA1A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080" y="223920"/>
            <a:ext cx="3435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144-B75B-4558-8151-C93A5C21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080" y="-1107720"/>
            <a:ext cx="3435480" cy="3585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080" y="1293480"/>
            <a:ext cx="167616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5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50480" y="1293480"/>
            <a:ext cx="1676160" cy="36608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8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080" y="3205800"/>
            <a:ext cx="167616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5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698-7AA4-4AE9-BAFC-E4A1E63C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080" y="-1107720"/>
            <a:ext cx="3435480" cy="3585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080" y="1293480"/>
            <a:ext cx="1676160" cy="36608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8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50480" y="1293480"/>
            <a:ext cx="167616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5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50480" y="3205800"/>
            <a:ext cx="167616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5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5F7-2313-4B95-AB01-5C9D8D4F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080" y="-1107720"/>
            <a:ext cx="3435480" cy="3585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080" y="1293480"/>
            <a:ext cx="167616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5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50480" y="1293480"/>
            <a:ext cx="167616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5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080" y="3205800"/>
            <a:ext cx="3435480" cy="17460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4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AAF-588A-4597-BAF7-7BEC212E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080" y="223920"/>
            <a:ext cx="3435480" cy="92232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080" y="1293480"/>
            <a:ext cx="3435480" cy="36608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34000"/>
          </a:bodyPr>
          <a:p>
            <a:pPr marL="199080" indent="-199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lvl="1" marL="431640" indent="-16560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lvl="2" marL="664200" indent="-1324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lvl="3" marL="929880" indent="-1324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lvl="4" marL="1195920" indent="-132480">
              <a:spcBef>
                <a:spcPts val="13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lvl="5" marL="1195920" indent="-132480">
              <a:spcBef>
                <a:spcPts val="13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lvl="6" marL="1195920" indent="-132480">
              <a:spcBef>
                <a:spcPts val="13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440" y="5141880"/>
            <a:ext cx="890640" cy="2952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02840" y="5141880"/>
            <a:ext cx="1209960" cy="2952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35280" y="5141880"/>
            <a:ext cx="890640" cy="2952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08E1-ED3F-46E6-A43D-68E69397F4AF}" type="slidenum">
              <a:rPr b="0" lang="ja-JP" sz="2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108000" y="108000"/>
            <a:ext cx="3600360" cy="5329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240" rIns="156240" tIns="78120" bIns="78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6"/>
          <p:cNvSpPr/>
          <p:nvPr/>
        </p:nvSpPr>
        <p:spPr>
          <a:xfrm>
            <a:off x="336600" y="939960"/>
            <a:ext cx="314316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6240" rIns="156240" tIns="78120" bIns="78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558ed5"/>
                </a:solidFill>
                <a:latin typeface="メイリオ"/>
                <a:ea typeface="メイリオ"/>
              </a:rPr>
              <a:t>パワーポイント用テンプレート注意事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黒枠はポストカードサイズ（仕上位置）の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幅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0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㎜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高さ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148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㎜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枠になり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仕上位置まで画像や背景色がある場合は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のスライド端いっぱい（幅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6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㎜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高さ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154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㎜ 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）まで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切れてはいけない情報（文字など）は青点枠より内側（仕上位置より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3mm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以上内側）に配置してください。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標準書体以外をお使いになりますと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印刷用データに変換する際、文字化けしてしまう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場合がございます。ご注意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印刷データは片面印刷の場合は２ページ目、両面印刷の場合は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３ページ目にレイアウト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変換については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://www.iihagaki.net/postcard/deta.html#pd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ご覧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3"/>
          <p:cNvSpPr/>
          <p:nvPr/>
        </p:nvSpPr>
        <p:spPr>
          <a:xfrm>
            <a:off x="216000" y="216000"/>
            <a:ext cx="3384360" cy="5113080"/>
          </a:xfrm>
          <a:prstGeom prst="rect">
            <a:avLst/>
          </a:prstGeom>
          <a:noFill/>
          <a:ln w="64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56240" rIns="156240" tIns="78120" bIns="78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Nishioka-25</cp:lastModifiedBy>
  <dcterms:modified xsi:type="dcterms:W3CDTF">2017-05-25T07:58:47Z</dcterms:modified>
  <cp:revision>15</cp:revision>
  <dc:subject/>
  <dc:title>PowerPoint プレゼンテーション</dc:title>
</cp:coreProperties>
</file>